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659-F1C1-4142-90D0-0BF2D6C8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FCE-EEF1-438D-8C46-CAE370A2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1BA-AFAF-42F6-B33F-23F50604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398-874B-49E4-95B5-C0F3855F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62CC-51B4-4251-B694-D1AC0589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8C85-5FA3-4A0C-B244-8DFAB2CC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A476-DD23-4A92-AFE0-589D36CE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1775-E8D8-4303-832F-B1ECF538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6DC1-A53D-4E13-893E-ACD8568A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200D-CD6B-44E9-83EF-3FE041AF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16AD-2147-47C3-BE20-D15A3E6F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B3F-D8AE-444B-9DA9-D46CC5F0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1A1C-AEA5-41AD-AED1-1834068C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810F-6B5F-4F14-9297-26C56CED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DA87-A821-4E40-B8ED-75458B87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9652-2096-40D9-86B7-236058CE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0737-A8D0-4373-BE52-B3D83991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290-0EEB-4D16-991D-C0F1B668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2C9-F547-4548-ACF7-69FECE73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0C2-D3FE-4AA5-9A63-92E5076E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443-17A2-4CE2-AB21-ACD3C390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6D1-67BD-4C9E-90D3-3503C5B0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2DD-6D82-4BC1-9158-3E337B0F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3A0-52F5-40AF-9E1E-76491BC8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6C43-0404-4CF1-AB84-E346728C5C40}" type="slidenum">
              <a:rPr b="0" lang="th-TH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ffffcc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0C68-FB5E-45BB-AAD2-A1A0FC2059FD}" type="slidenum">
              <a:rPr b="0" lang="th-TH" sz="1400" spc="-1" strike="noStrike">
                <a:solidFill>
                  <a:srgbClr val="ffffcc"/>
                </a:solidFill>
                <a:latin typeface="Arial"/>
                <a:ea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Quantative chemist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2286000"/>
            <a:ext cx="8153280" cy="41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For each of the laws in the following slides, think of where in today</a:t>
            </a:r>
            <a:r>
              <a:rPr b="0" lang="ja-JP" sz="2800" spc="-1" strike="noStrike">
                <a:solidFill>
                  <a:srgbClr val="ffffcc"/>
                </a:solidFill>
                <a:latin typeface="Arial"/>
                <a:ea typeface="Arial"/>
              </a:rPr>
              <a:t>’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s chemistry we use the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What is a </a:t>
            </a:r>
            <a:r>
              <a:rPr b="0" lang="ja-JP" sz="2800" spc="-1" strike="noStrike">
                <a:solidFill>
                  <a:srgbClr val="ffffcc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law</a:t>
            </a:r>
            <a:r>
              <a:rPr b="0" lang="ja-JP" sz="2800" spc="-1" strike="noStrike">
                <a:solidFill>
                  <a:srgbClr val="ffffcc"/>
                </a:solidFill>
                <a:latin typeface="Arial"/>
                <a:ea typeface="Arial"/>
              </a:rPr>
              <a:t>”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in scienc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Do we know if these laws are always righ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Why do we accept them and work with them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How do you think they obtained the evidenc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aw of Conservation of Mas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From studying reactions involving oxygen, Lavoisier concluded that during any chemical reaction no atoms were destroyed and therefore the mass remains the same during any chemical reac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133720" y="12952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avoisier - 18th centu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aw of Definite Proportion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Analytical tests showed that a pure substance consists of the same elements in definite propor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Example: water is always 88.88 % oxygen by ma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09680" y="1295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SimSun"/>
              </a:rPr>
              <a:t>Joseph-Louis Proust - 179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Picture 8" descr="Photo of Joseph Louis Proust, French chemist, c 1795."/>
          <p:cNvPicPr/>
          <p:nvPr/>
        </p:nvPicPr>
        <p:blipFill>
          <a:blip r:embed="rId1"/>
          <a:stretch/>
        </p:blipFill>
        <p:spPr>
          <a:xfrm>
            <a:off x="4648320" y="2057400"/>
            <a:ext cx="3809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aw of Combining Volumes of G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51051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When gases react, they do so in whole number ratios in terms of volum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Example: 3 volumes of hydrogen react with 1 volume of nitrogen to form 2 volumes of ammoni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Text Box 1029"/>
          <p:cNvSpPr/>
          <p:nvPr/>
        </p:nvSpPr>
        <p:spPr>
          <a:xfrm>
            <a:off x="2666880" y="12193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SimSun"/>
              </a:rPr>
              <a:t>Gay-Lussac - 180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Picture 1032" descr="Photo of Joseph Louis Gay-Lussac, French chemist and physicist, early 19th century."/>
          <p:cNvPicPr/>
          <p:nvPr/>
        </p:nvPicPr>
        <p:blipFill>
          <a:blip r:embed="rId1"/>
          <a:stretch/>
        </p:blipFill>
        <p:spPr>
          <a:xfrm>
            <a:off x="5715000" y="1981080"/>
            <a:ext cx="3019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aw of Multiple Propor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5257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In 2 different compounds of the same elements, if the mass of 1 element is the same (e.g. 12g C in CO and C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) than the ratio of the mass of the other element (e.g. 16g and 32g for oxygen) in each compound must be whole numb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828800" y="10666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SimSun"/>
              </a:rPr>
              <a:t>Dalton - 1800</a:t>
            </a:r>
            <a:r>
              <a:rPr b="0" lang="ja-JP" sz="3200" spc="-1" strike="noStrike">
                <a:solidFill>
                  <a:srgbClr val="ffffcc"/>
                </a:solidFill>
                <a:latin typeface="SimSun"/>
              </a:rPr>
              <a:t>’</a:t>
            </a:r>
            <a:r>
              <a:rPr b="0" lang="en-US" sz="3200" spc="-1" strike="noStrike">
                <a:solidFill>
                  <a:srgbClr val="ffffcc"/>
                </a:solidFill>
                <a:latin typeface="SimSun"/>
              </a:rPr>
              <a:t>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3086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vogadro</a:t>
            </a:r>
            <a:r>
              <a:rPr b="0" i="1" lang="ja-JP" sz="4400" spc="-1" strike="noStrike">
                <a:solidFill>
                  <a:srgbClr val="ffcc66"/>
                </a:solidFill>
                <a:latin typeface="Times New Roman"/>
              </a:rPr>
              <a:t>’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 Law  -  181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205740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Equal volumes of different gases at the same temperature and pressure must have equal number of particles (this explains Gay-Lussac</a:t>
            </a:r>
            <a:r>
              <a:rPr b="0" lang="ja-JP" sz="3200" spc="-1" strike="noStrike">
                <a:solidFill>
                  <a:srgbClr val="ffffcc"/>
                </a:solidFill>
                <a:latin typeface="Arial"/>
                <a:ea typeface="Arial"/>
              </a:rPr>
              <a:t>’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s Law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Picture 6" descr="Lorenzo Romano Amedeo Carlo Avogadro di Quaregua e di Cerreto"/>
          <p:cNvPicPr/>
          <p:nvPr/>
        </p:nvPicPr>
        <p:blipFill>
          <a:blip r:embed="rId1"/>
          <a:stretch/>
        </p:blipFill>
        <p:spPr>
          <a:xfrm>
            <a:off x="4890960" y="2057400"/>
            <a:ext cx="332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1:31:00Z</dcterms:created>
  <dc:creator>dulwich</dc:creator>
  <dc:description/>
  <dc:language>en-US</dc:language>
  <cp:lastModifiedBy>Nico Van De Casteele</cp:lastModifiedBy>
  <dcterms:modified xsi:type="dcterms:W3CDTF">2014-09-10T01:57:47Z</dcterms:modified>
  <cp:revision>13</cp:revision>
  <dc:subject/>
  <dc:title>Law of Conservation of Mass</dc:title>
</cp:coreProperties>
</file>